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E0D-D261-4D2B-A39F-351BB8B9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AF1-F797-41D5-BD00-94B3FB2D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DE2-9D98-4365-8C08-3EB044F5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011-0AA4-422C-BCF3-0BA56256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F7A-18FB-4A3D-B736-7F5C7606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8D0-C85F-4EFA-AF6A-F5DF21DF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4A1-959C-4434-97F1-BD909359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673-F317-437F-BAE2-89EF461C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01E-611C-4414-983B-9243AFE4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D30-F2CF-43AE-B25B-2E50D6BC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EF3-E66D-426D-BFE0-4312A190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F69-0AB4-4E9C-B754-4329229E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902C-EE6D-4921-A8A6-F1B017295B4D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2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7720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Business Operations Support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Task Description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Josef Baure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RD 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3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362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ask Descriptio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lanning Process, Support and Tool Defini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ool defini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and steering of tool modif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scenario planning too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lignment global for too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lanning proces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wner of planning process descrip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lignment global proces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ntrol process implementation and us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valuation and reporting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and steering availability of reporting capabilities of too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anagement of accounts in Planning Tool (create, delete, etc.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Ensure opening and closing of project accou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lausibility chec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raining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ool Hotlin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362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ask Descriptio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Roadmap planning, controlling and report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Roadmap and scenario plann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heck availability of needed input for plann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Responsible for planning organis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Realization of planning round (start, stop, task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Align global planning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Controll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ontrolling of planning result (Cost, Ressources, Load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ontrolling of planned budget together with B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Benchmark of project effor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Align global controll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Report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Define and implement reporting structu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Ressource and budget repor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Align global repor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362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ask Descriptio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udget and Portfolio align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a0e66"/>
                </a:solidFill>
                <a:latin typeface="Minion"/>
              </a:rPr>
              <a:t>Budget and portfolio align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Member of Malpha process tea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Budget and portfolio alignment with C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Investigation of roadmap scenario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easibility of features, timeline and ressourc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Align global activiti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Align global roadmap and portfolio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362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ask Descriptio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artner manag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a0e66"/>
                </a:solidFill>
                <a:latin typeface="Minion"/>
              </a:rPr>
              <a:t>RD supplier interface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a0e66"/>
                </a:solidFill>
                <a:latin typeface="Minion"/>
              </a:rPr>
              <a:t>Contract Management Support of: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ceptual contract setup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tract preparation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tract negotioations and manage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tract implement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tract Q&amp;A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a0e66"/>
                </a:solidFill>
                <a:latin typeface="Minion"/>
              </a:rPr>
              <a:t>Cross functional activities/across all platforms. Support of: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strategy and business mode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make or buy decis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partner selec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project tracking/steering board/escal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partner rat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feedback loop and improve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a0e66"/>
                </a:solidFill>
                <a:latin typeface="Minion"/>
              </a:rPr>
              <a:t>BOS USPs: not limited t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one projec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one platform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one suppli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-&gt;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Business focu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Roland Puscher</dc:creator>
  <dc:description/>
  <dc:language>en-US</dc:language>
  <cp:lastModifiedBy> </cp:lastModifiedBy>
  <dcterms:modified xsi:type="dcterms:W3CDTF">2006-05-24T08:57:43Z</dcterms:modified>
  <cp:revision>139</cp:revision>
  <dc:subject/>
  <dc:title>PowerPoint 簡報</dc:title>
</cp:coreProperties>
</file>